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05CD-BA2F-4ED7-AEB2-D243CCC5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A66E-F570-45C0-A80A-9C4DD3A9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BC6F-73E8-4610-95F0-4A472309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D467-25C1-4523-A8FA-34D7BCD1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4C72-63A8-49FA-B9F8-5F10F92F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4FC0-91AF-4D78-96F7-9C9CF06D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FA35-4F24-402F-B12F-4C47B1F0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AF0A-5E6A-4338-8402-6D1C508E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CAF7-F234-48CC-96AD-2B9642B8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4F53-6AF6-428B-929C-97334AE6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1F94-0F36-4D4F-A9F3-628B4ED6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1DAC-4150-4C78-BA4D-EFF0B100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1C8F-D416-4889-AC21-504D08E96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049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Distributions for Quantitative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04920" y="7621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OTPL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04920" y="12952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Shows every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04920" y="182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Better for smaller sets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04920" y="24382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Shows counts (not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04920" y="30481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Examples: We’ve done a ton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28600" y="3808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plitting 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228600" y="838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e a stemplot of the age guesses on you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228600" y="1371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hy is this not a good picture for the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228600" y="1981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We can split the stems to spread out clumped/cluster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228600" y="29718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When we split the stems, each stem must have an equal number of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possibl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data points o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228600" y="39625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stem for every 5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stem for every 2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stem for every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28600" y="838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Create a stemplot of the age guesses on your paper, but split the stems once (one stem for every 5 numb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228600" y="2065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Create a stemplot of the age guesses on your paper, but split the stems again (one stem for every 2 numb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228600" y="34290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Create a stemplot of the age guesses on your paper, but split the stems again (one stem for every numb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28600" y="1371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escribing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304920" y="3049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HIST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04920" y="8380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Shows groups of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04920" y="1371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Good for all size sets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04920" y="19810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Can show counts (#) and rates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04920" y="25909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HOW TO M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04920" y="30481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Look at range of data, understand data &amp; decide on classes to break data 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04920" y="40384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Count # of individuals in each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304920" y="4572000"/>
            <a:ext cx="8076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Create hist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x-axis = classes (no 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y-axis = count or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create bars for each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80880" y="304920"/>
            <a:ext cx="815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Example 1: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elow are the GPAs for students in a senior AP English class.  Create a histogram (use cou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.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2.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.4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.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.8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.9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.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.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.7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.5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.6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.9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.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.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.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.3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.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.6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.9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2.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2.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2.5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2.8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.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.5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2.7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.7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80880" y="304920"/>
            <a:ext cx="8153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Exampl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following is data on the total SAT score (math and verbal) for numerous students in a Spanish class.  Create a histogram (use 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1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10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30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5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96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79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51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1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41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01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98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79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0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3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05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9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8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96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91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8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11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19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13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0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02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7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32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42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8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40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1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17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2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3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02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00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04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05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0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286000" y="12952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Using the calcul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reating a hist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304920" y="3049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TEMPL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4920" y="8380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Shows every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4920" y="1371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Better for smaller sets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04920" y="19810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Shows counts (not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04920" y="25909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HOW TO M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04920" y="31240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Separate each observation into a stem and a leaf (the last digit of the observ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04920" y="40543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Write all stems in the range of data (including ones with no data) in a vertical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04920" y="49687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Create a vertical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304920" y="550224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Write each leaf to the right of its stem, in increasing order out from the 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228600" y="228600"/>
            <a:ext cx="8915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elow are test scores on the Chapter 4 tes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e a stemplot of the scor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78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79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67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56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76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98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6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67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8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4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59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6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66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93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7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8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58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77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9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75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6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28600" y="2286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Back to back stem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228600" y="7621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Used to compare two similar sets of data in stem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228600" y="31957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OW TO M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28600" y="37288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Look at both sets of stems- find TOTAL range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228600" y="42624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List stems in middle, put vertical lines on ei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228600" y="47959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Label each side with the name of the set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228600" y="53290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Write each set of data outward from the stems, in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28600" y="228600"/>
            <a:ext cx="891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Example 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abe Ruth’s homerun totals each season for the Yanke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54, 59, 35, 41, 46, 25, 47, 60, 54, 46, 49, 41, 34,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oger Maris’ homerun totals for the Yanke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, 13, 23, 33, 28, 16, 14, 39, 26, 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e a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Back-to-Bac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stem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23:39:01Z</dcterms:created>
  <dc:creator>Lauren Senske</dc:creator>
  <dc:description/>
  <dc:language>en-US</dc:language>
  <cp:lastModifiedBy>Lauren Senske</cp:lastModifiedBy>
  <dcterms:modified xsi:type="dcterms:W3CDTF">2009-10-08T17:04:56Z</dcterms:modified>
  <cp:revision>13</cp:revision>
  <dc:subject/>
  <dc:title>Slide 1</dc:title>
</cp:coreProperties>
</file>